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4EC8-2F5D-432F-8443-F42022465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4318-D86E-4DC4-AC12-2717502B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4B48-BF1E-4F29-9074-AA3D2A217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306A-8461-4DBD-B294-96CB3D01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4051-7D91-487C-A17D-C91FF803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2EDE-60F9-4DC4-A918-ECF07863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6EF2-9D85-4E0C-9A6C-C6AC440C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5175-95BC-43B1-9D04-4CBAC2C4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832E-0119-4392-A07B-F231FB57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5DFF-D54C-4A54-9731-4B835BC1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071C-03A1-4AFD-9863-03EE1A68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4DA1-233B-418A-B6C5-B454F354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5C5E-06E8-481F-BCE3-731FF9A21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13372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0968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comp_i"/>
          <p:cNvPicPr/>
          <p:nvPr/>
        </p:nvPicPr>
        <p:blipFill>
          <a:blip r:embed="rId2">
            <a:grayscl/>
          </a:blip>
          <a:stretch/>
        </p:blipFill>
        <p:spPr>
          <a:xfrm>
            <a:off x="4875120" y="1446120"/>
            <a:ext cx="709560" cy="7095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5a3</cp:lastModifiedBy>
  <dcterms:modified xsi:type="dcterms:W3CDTF">2012-06-19T11:27:40Z</dcterms:modified>
  <cp:revision>2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